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F503-6F23-4CF2-AC95-D3E28B14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D419-2079-40DE-A204-52A7FA64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6250-ABC8-450D-A795-C329F367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A21-5405-4334-A9FE-721B4B6C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C25A-770D-4729-A06B-03410DB6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A4F-D534-43FF-9ED6-E3D2FF67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60BB-7E06-4D1E-94CE-F6ADA045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B4B4-F8A9-4DBC-AA12-B1A16FB0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E6E-7C4F-4F46-97FC-EBAD8D3E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2AF0-5FE4-4C8E-98F1-A249F8F7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408-B017-4C52-9B6B-F2B6B7BF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511-AD38-4607-89AC-5A45CC8F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B53A-4743-4ECC-A015-41E8355E0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0" y="-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8838720" y="-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6491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39080" y="6491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3:11:21Z</dcterms:created>
  <dc:creator>nsmith</dc:creator>
  <dc:description/>
  <dc:language>en-US</dc:language>
  <cp:lastModifiedBy>lhs-lmc</cp:lastModifiedBy>
  <dcterms:modified xsi:type="dcterms:W3CDTF">2010-04-19T17:09:47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